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963-57DE-4C6E-8A05-C095A0F6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B0D-6DC2-4AF0-A455-ED067008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014-C800-47FC-853F-E22F1227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DEC-57B1-4FCA-92B4-724AD037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422-7AC2-42C0-97A6-C306CA96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4D23-93F9-4B23-A75C-6508000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AD23-9504-46DC-B3E5-E5C8557C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A71A-663B-494E-866F-E13022C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321B-371F-487B-9B55-C3ED3783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F24C-7C9C-4D06-B3EB-F2713ED7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EDDA-6909-410E-A237-FCABB737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57F-CFFF-4AA0-B807-A3F7E8A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A39B-ABFC-4743-946C-15C0DEE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0136-9F10-499E-95B4-64F79B6E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DAC0-8DCB-446D-9284-35428DE0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EDC6-2731-4A65-9ABC-15A99F39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A798-6990-469C-94AF-8742E838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7AA-BEEF-4331-BF55-0BC9580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0D2-944C-4B94-ACBB-227C5C13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1F4-13C0-4F08-BC68-01B8AF39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218-9C11-4CA9-B310-60468211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B22-A331-4CA0-8D37-A68EE8D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461-91B0-45FF-936A-325079A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F84-C479-4443-BF8B-7C96851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C70-6388-41A0-9DFF-8D5008D51552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22F1-3ACD-45EA-988C-09C06C97C4BE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LE PROSTOKĄ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JEDNOSTKI P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2000" y="119340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455292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132000" y="2327400"/>
          <a:ext cx="276552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327400"/>
                    <a:ext cx="27655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132000" y="2338560"/>
          <a:ext cx="2216160" cy="14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338560"/>
                    <a:ext cx="2216160" cy="14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000" y="953640"/>
            <a:ext cx="80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Dany jest prostokąt o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szerok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 Ile kwadra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o boku długości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zmieści się w tym prostokąc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75496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pokrycie prostokąta o bokac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trzebnych był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0 kwadratów jednostkowy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97000" y="1673280"/>
          <a:ext cx="498312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673280"/>
                    <a:ext cx="498312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097000" y="1663560"/>
          <a:ext cx="4375080" cy="36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7000" y="1663560"/>
                    <a:ext cx="43750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POLA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057680"/>
            <a:ext cx="80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e kwadratu o boku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 c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zyjmujemy za jednostkę po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nazywamy j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ntymetrem kwadratowy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 zapisujemy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81280" y="1989000"/>
          <a:ext cx="137160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989000"/>
                    <a:ext cx="13716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40520" y="3312000"/>
            <a:ext cx="79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le prostokąta obliczamy mnożąc długości sąsiednich boków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9840" y="4347000"/>
            <a:ext cx="71852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e oznaczamy przez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tem pole prostokąta o długości boków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 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rów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6 cm ·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 = 30 cm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L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22680" y="1267560"/>
            <a:ext cx="71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amy pole prostokąta o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długości boku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22360" y="2124000"/>
          <a:ext cx="462312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2360" y="2124000"/>
                    <a:ext cx="46231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3492360" y="5184720"/>
            <a:ext cx="2070360" cy="719280"/>
            <a:chOff x="3492360" y="5184720"/>
            <a:chExt cx="2070360" cy="719280"/>
          </a:xfrm>
        </p:grpSpPr>
        <p:sp>
          <p:nvSpPr>
            <p:cNvPr id="127" name=""/>
            <p:cNvSpPr/>
            <p:nvPr/>
          </p:nvSpPr>
          <p:spPr>
            <a:xfrm>
              <a:off x="3718080" y="52444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 = a · 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92360" y="5184720"/>
              <a:ext cx="2070360" cy="719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5920" y="1267560"/>
            <a:ext cx="61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icz pola prostokątów przedstawionych na rysun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11280" y="1989000"/>
          <a:ext cx="2355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989000"/>
                    <a:ext cx="2355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72000" y="1989000"/>
          <a:ext cx="23590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2000" y="1989000"/>
                    <a:ext cx="2359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P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4560" y="1090800"/>
            <a:ext cx="79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ili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c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cent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d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decy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 km</a:t>
            </a:r>
            <a:r>
              <a:rPr b="1" lang="pl-PL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jeden kilometr kwadratowy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to kwadrat o boku 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41824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dnostkami pola są również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hektar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do wyrażania większych obszarów, np.: pola uprawne, działki, duże place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3440" y="5273280"/>
            <a:ext cx="62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en hek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kwadrat o boku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0920" y="126936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zupełnij tabelk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57360" y="2214720"/>
          <a:ext cx="5753160" cy="285732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Dług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Szerokość prostoką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Obwó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P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1:07Z</dcterms:modified>
  <cp:revision>66</cp:revision>
  <dc:subject/>
  <dc:title>Slajd 1</dc:title>
</cp:coreProperties>
</file>